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0541-F4F1-49A0-B339-D811C6229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9355-7922-4386-9433-23F33C159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FBD7-F886-4BB1-A0FD-5B8E5B74F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6FA4-955E-4658-84E7-648533115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AB8B-93FB-42CE-9040-EF27DA255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77D9-C17F-4C37-9EC4-45623D26E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1201-8B41-4E06-AE20-87EF2ACD9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5F26-C57B-4BF0-9A5A-48FD4DA5A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42F3-0AFA-45C0-90AC-373D12232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AA30-3A98-4318-A0EC-944A87C0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931A-860D-4303-ABE9-52C72445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0BC8-5FE8-47FD-9802-1AD9C4EE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5B6DE-8D1C-46B1-9C22-8EFD3E89FD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2666880"/>
            <a:ext cx="12956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Appl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3429000"/>
            <a:ext cx="12956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ApplicationMac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95480" y="2666880"/>
            <a:ext cx="12956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Docu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2666880"/>
            <a:ext cx="12956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Fr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3429000"/>
            <a:ext cx="12956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Wind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52880" y="4191120"/>
            <a:ext cx="12956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Pan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162920" y="4191120"/>
            <a:ext cx="1295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000" spc="-1" strike="noStrike">
                <a:solidFill>
                  <a:srgbClr val="000000"/>
                </a:solidFill>
                <a:latin typeface="Times New Roman"/>
              </a:rPr>
              <a:t>UserWind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95480" y="3429000"/>
            <a:ext cx="12956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000" spc="-1" strike="noStrike">
                <a:solidFill>
                  <a:srgbClr val="000000"/>
                </a:solidFill>
                <a:latin typeface="Times New Roman"/>
              </a:rPr>
              <a:t>UserDocu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1760" y="456120"/>
            <a:ext cx="354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J Library Class Hierarc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99072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43" idx="2"/>
            <a:endCxn id="48" idx="0"/>
          </p:cNvCxnSpPr>
          <p:nvPr/>
        </p:nvCxnSpPr>
        <p:spPr>
          <a:xfrm>
            <a:off x="3543120" y="3048120"/>
            <a:ext cx="360" cy="3812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2" name=""/>
          <p:cNvCxnSpPr>
            <a:stCxn id="44" idx="2"/>
            <a:endCxn id="45" idx="0"/>
          </p:cNvCxnSpPr>
          <p:nvPr/>
        </p:nvCxnSpPr>
        <p:spPr>
          <a:xfrm>
            <a:off x="5600520" y="3048120"/>
            <a:ext cx="360" cy="38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>
            <a:off x="5600520" y="3809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1" idx="2"/>
            <a:endCxn id="42" idx="0"/>
          </p:cNvCxnSpPr>
          <p:nvPr/>
        </p:nvCxnSpPr>
        <p:spPr>
          <a:xfrm>
            <a:off x="1714320" y="3048120"/>
            <a:ext cx="360" cy="38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5" idx="3"/>
            <a:endCxn id="47" idx="0"/>
          </p:cNvCxnSpPr>
          <p:nvPr/>
        </p:nvCxnSpPr>
        <p:spPr>
          <a:xfrm>
            <a:off x="6248520" y="3619440"/>
            <a:ext cx="1562400" cy="57204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3886200" y="15238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Obje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6" idx="2"/>
            <a:endCxn id="41" idx="0"/>
          </p:cNvCxnSpPr>
          <p:nvPr/>
        </p:nvCxnSpPr>
        <p:spPr>
          <a:xfrm rot="5400000">
            <a:off x="2743200" y="876240"/>
            <a:ext cx="762120" cy="281988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6" idx="2"/>
            <a:endCxn id="43" idx="0"/>
          </p:cNvCxnSpPr>
          <p:nvPr/>
        </p:nvCxnSpPr>
        <p:spPr>
          <a:xfrm rot="5400000">
            <a:off x="3657600" y="1790640"/>
            <a:ext cx="762120" cy="99108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6" idx="2"/>
            <a:endCxn id="44" idx="0"/>
          </p:cNvCxnSpPr>
          <p:nvPr/>
        </p:nvCxnSpPr>
        <p:spPr>
          <a:xfrm flipH="1" rot="16200000">
            <a:off x="4686120" y="1752480"/>
            <a:ext cx="762120" cy="106704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6705720" y="26668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56" idx="2"/>
            <a:endCxn id="60" idx="0"/>
          </p:cNvCxnSpPr>
          <p:nvPr/>
        </p:nvCxnSpPr>
        <p:spPr>
          <a:xfrm flipH="1" rot="16200000">
            <a:off x="5562720" y="876240"/>
            <a:ext cx="762120" cy="281988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200400" y="22096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Appl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52480" y="3581280"/>
            <a:ext cx="12956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Docu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29200" y="35812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Wind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480" y="456120"/>
            <a:ext cx="302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J Library Class L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99072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3200400"/>
            <a:ext cx="1295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Fr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81680" y="3200400"/>
            <a:ext cx="12956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MainMenuB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22096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AboutBo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>
            <a:stCxn id="62" idx="3"/>
            <a:endCxn id="69" idx="1"/>
          </p:cNvCxnSpPr>
          <p:nvPr/>
        </p:nvCxnSpPr>
        <p:spPr>
          <a:xfrm>
            <a:off x="4495680" y="240012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62" idx="2"/>
            <a:endCxn id="64" idx="1"/>
          </p:cNvCxnSpPr>
          <p:nvPr/>
        </p:nvCxnSpPr>
        <p:spPr>
          <a:xfrm flipH="1" rot="16200000">
            <a:off x="3846960" y="2590560"/>
            <a:ext cx="118188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"/>
          <p:cNvCxnSpPr>
            <a:stCxn id="62" idx="2"/>
            <a:endCxn id="63" idx="0"/>
          </p:cNvCxnSpPr>
          <p:nvPr/>
        </p:nvCxnSpPr>
        <p:spPr>
          <a:xfrm rot="5400000">
            <a:off x="2628360" y="2361960"/>
            <a:ext cx="991080" cy="1448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7" idx="3"/>
            <a:endCxn id="68" idx="1"/>
          </p:cNvCxnSpPr>
          <p:nvPr/>
        </p:nvCxnSpPr>
        <p:spPr>
          <a:xfrm>
            <a:off x="6324480" y="339048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3" idx="2"/>
            <a:endCxn id="64" idx="2"/>
          </p:cNvCxnSpPr>
          <p:nvPr/>
        </p:nvCxnSpPr>
        <p:spPr>
          <a:xfrm flipH="1" rot="16200000">
            <a:off x="4037040" y="2324880"/>
            <a:ext cx="2160" cy="327708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04:24:34Z</dcterms:created>
  <dc:creator>Jean Bovet</dc:creator>
  <dc:description/>
  <dc:language>en-US</dc:language>
  <cp:lastModifiedBy>Jean Bovet</cp:lastModifiedBy>
  <dcterms:modified xsi:type="dcterms:W3CDTF">2004-09-14T05:44:20Z</dcterms:modified>
  <cp:revision>5</cp:revision>
  <dc:subject/>
  <dc:title>Présentation PowerPoint</dc:title>
</cp:coreProperties>
</file>