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B535-9EC7-4909-ABE8-33C1E54F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9CCB-7BB5-4AA5-9487-FCC07FF9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4A01-E1B0-4EB2-B6F0-45BE557D0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E207-E42D-4B7E-9FC8-8A63CB873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E019-8C89-4B01-A1D8-EFFA7E9B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C1F9-9AEE-4005-BBAB-204CC89E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4A62-3E2A-4B3B-A948-0C38BEDC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01C3-8911-483A-B877-C9980D58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88A3-55B6-43D2-BFDB-A65278A3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A5FA-8DF5-4344-AC9C-03A17341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A089-42C2-4765-873E-5417E273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BE90-9EFC-4ADD-A2D6-1797A24D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6267-226A-42D9-B149-C7C3EA9A7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26668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34290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pplicationMa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26668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26668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34290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Wind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419112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Pa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2920" y="41911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000" spc="-1" strike="noStrike">
                <a:solidFill>
                  <a:srgbClr val="000000"/>
                </a:solidFill>
                <a:latin typeface="Times New Roman"/>
              </a:rPr>
              <a:t>UserWind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34290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000" spc="-1" strike="noStrike">
                <a:solidFill>
                  <a:srgbClr val="000000"/>
                </a:solidFill>
                <a:latin typeface="Times New Roman"/>
              </a:rPr>
              <a:t>User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1760" y="456120"/>
            <a:ext cx="35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J Library Class 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9907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3" idx="2"/>
            <a:endCxn id="48" idx="0"/>
          </p:cNvCxnSpPr>
          <p:nvPr/>
        </p:nvCxnSpPr>
        <p:spPr>
          <a:xfrm>
            <a:off x="3543120" y="3048120"/>
            <a:ext cx="360" cy="3812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4" idx="2"/>
            <a:endCxn id="45" idx="0"/>
          </p:cNvCxnSpPr>
          <p:nvPr/>
        </p:nvCxnSpPr>
        <p:spPr>
          <a:xfrm>
            <a:off x="5600520" y="304812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>
            <a:off x="5600520" y="3809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1" idx="2"/>
            <a:endCxn id="42" idx="0"/>
          </p:cNvCxnSpPr>
          <p:nvPr/>
        </p:nvCxnSpPr>
        <p:spPr>
          <a:xfrm>
            <a:off x="1714320" y="304812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5" idx="3"/>
            <a:endCxn id="47" idx="0"/>
          </p:cNvCxnSpPr>
          <p:nvPr/>
        </p:nvCxnSpPr>
        <p:spPr>
          <a:xfrm>
            <a:off x="6248520" y="3619440"/>
            <a:ext cx="1562400" cy="57204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886200" y="1523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Ob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6" idx="2"/>
            <a:endCxn id="41" idx="0"/>
          </p:cNvCxnSpPr>
          <p:nvPr/>
        </p:nvCxnSpPr>
        <p:spPr>
          <a:xfrm rot="5400000">
            <a:off x="2743200" y="876240"/>
            <a:ext cx="762120" cy="28198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3" idx="0"/>
          </p:cNvCxnSpPr>
          <p:nvPr/>
        </p:nvCxnSpPr>
        <p:spPr>
          <a:xfrm rot="5400000">
            <a:off x="3657600" y="1790640"/>
            <a:ext cx="762120" cy="9910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6" idx="2"/>
            <a:endCxn id="44" idx="0"/>
          </p:cNvCxnSpPr>
          <p:nvPr/>
        </p:nvCxnSpPr>
        <p:spPr>
          <a:xfrm flipH="1" rot="16200000">
            <a:off x="4686120" y="1752480"/>
            <a:ext cx="762120" cy="106704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6705720" y="2666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6" idx="2"/>
            <a:endCxn id="60" idx="0"/>
          </p:cNvCxnSpPr>
          <p:nvPr/>
        </p:nvCxnSpPr>
        <p:spPr>
          <a:xfrm flipH="1" rot="16200000">
            <a:off x="5562720" y="876240"/>
            <a:ext cx="762120" cy="28198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00400" y="22096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35812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35812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Wind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480" y="45612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J Library Class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9907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320040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32004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MainMenuB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22096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boutBo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62" idx="3"/>
            <a:endCxn id="69" idx="1"/>
          </p:cNvCxnSpPr>
          <p:nvPr/>
        </p:nvCxnSpPr>
        <p:spPr>
          <a:xfrm>
            <a:off x="4495680" y="240012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2" idx="2"/>
            <a:endCxn id="64" idx="1"/>
          </p:cNvCxnSpPr>
          <p:nvPr/>
        </p:nvCxnSpPr>
        <p:spPr>
          <a:xfrm flipH="1" rot="16200000">
            <a:off x="3846960" y="2590560"/>
            <a:ext cx="118188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2" idx="2"/>
            <a:endCxn id="63" idx="0"/>
          </p:cNvCxnSpPr>
          <p:nvPr/>
        </p:nvCxnSpPr>
        <p:spPr>
          <a:xfrm rot="5400000">
            <a:off x="2628360" y="2361960"/>
            <a:ext cx="991080" cy="1448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7" idx="3"/>
            <a:endCxn id="68" idx="1"/>
          </p:cNvCxnSpPr>
          <p:nvPr/>
        </p:nvCxnSpPr>
        <p:spPr>
          <a:xfrm>
            <a:off x="6324480" y="33904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3" idx="2"/>
            <a:endCxn id="64" idx="2"/>
          </p:cNvCxnSpPr>
          <p:nvPr/>
        </p:nvCxnSpPr>
        <p:spPr>
          <a:xfrm flipH="1" rot="16200000">
            <a:off x="4037040" y="2324880"/>
            <a:ext cx="2160" cy="327708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4:24:34Z</dcterms:created>
  <dc:creator>Jean Bovet</dc:creator>
  <dc:description/>
  <dc:language>en-US</dc:language>
  <cp:lastModifiedBy>Jean Bovet</cp:lastModifiedBy>
  <dcterms:modified xsi:type="dcterms:W3CDTF">2004-09-14T05:44:20Z</dcterms:modified>
  <cp:revision>5</cp:revision>
  <dc:subject/>
  <dc:title>Présentation PowerPoint</dc:title>
</cp:coreProperties>
</file>